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6D10E-6057-4AC9-9919-D28C9BDBC9C3}" type="slidenum"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Photosyn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SBI 3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otosyn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Biology 11:  College Preparation. Pg 74. Nelson, Toronto.  200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Biology 11:  College Preparation. Pg 74. Nelson, Toronto.  200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do leaves turn brown in the fal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’s all about pigment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go outside and collect some leave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be continued…  =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do leaves turn brown in the fal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’s all about pigment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go outside and collect some leave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be continued…  =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energy on earth comes from the su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epend 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gae (underwater plant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yanobacteria (photosynthetic bacteri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provide this energy to u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energy on earth comes from the su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epend 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gae (underwater plant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yanobacteria (photosynthetic bacteri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provide this energy to u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bon dioxide and water are taken in by pl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ts absorb light energy and convert it to a usable for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 is used to “fix” carbon dioxide into sugar molec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ical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gar is converted to starch and stored for use by the plant, and by animals when they eat pla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bon dioxide and water are taken in by pl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ts absorb light energy and convert it to a usable for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 is used to “fix” carbon dioxide into sugar molec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ical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gar is converted to starch and stored for use by the plant, and by animals when they eat pla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loropla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TWO membra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“bi-bilayer!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ner membrane is called the thylakoi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hylakoid is folded and looks like stacks of coins called granum (grana singular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roma is the space surrounding the gran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source:  http://www.daviddarling.info/encyclopedia/C/chloroplast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loropla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TWO membra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“bi-bilayer!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ner membrane is called the thylakoi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hylakoid is folded and looks like stacks of coins called granum (grana singular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roma is the space surrounding the gran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source:  http://www.daviddarling.info/encyclopedia/C/chloroplast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Chloropla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Chlorophyll molecules are embedded in the thylakoid membr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Act like a light “antenna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These molecules can absorb sunlight energ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Image from Biology 11:  College Preparation.  Pg 73.  Nelson, Toronto.  200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loropla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lorophyll molecules are embedded in the thylakoid membr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 like a light “antenna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molecules can absorb sunlight energ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mage from Biology 11:  College Preparation.  Pg 73.  Nelson, Toronto.  200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 (dependent)Re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ppen ONLY in sun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nce they depend on ligh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 is absorbed by chlorophyll molec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nergy generates molecules of A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Biology 11:  College Preparation. Pg 74. Nelson, Toronto.  200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 (dependent)Re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ppen ONLY in sun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nce they depend on ligh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 is absorbed by chlorophyll molec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nergy generates molecules of A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Biology 11:  College Preparation. Pg 74. Nelson, Toronto.  200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 Independent Reaction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formerly the “dark reactions”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ppen in sunlight, and in the dar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nce “independent of light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P generated by sunlight drives the Calvin Cyc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nosaccarides (eg. glucose) are manufactured in the cyc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nosaccarides are used to “build” polysaccharides (eg. Starch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Biology 11:  College Preparation. Pg 74. Nelson, Toronto.  200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 Independent Reaction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formerly the “dark reactions”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ppen in sunlight, and in the dar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nce “independent of light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P generated by sunlight drives the Calvin Cyc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nosaccarides (eg. glucose) are manufactured in the cyc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nosaccarides are used to “build” polysaccharides (eg. Starch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Biology 11:  College Preparation. Pg 74. Nelson, Toronto.  200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Overall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What is the equation for photosynthesi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carbon dioxide + water  glucose + oxygen +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6CO2  +  6H2O    C6H12O6  +  6O2  + 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verall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hat is the equation for photosynthesi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rbon dioxide + water  glucose + oxygen +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6CO2  +  6H2O    C6H12O6  +  6O2  + 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D4135-8CE6-4173-A21D-4F277144B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9164D-1DC7-46EA-BDF1-E5F59BDB4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0171C-A4B0-4AE0-92AD-EF4605B10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208C8-82EA-4EAB-BE77-C42833387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E694B-80CE-4EFC-AF1D-25CBA01AE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04F5A-109E-428B-9BB8-FAB6552A6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7B67B-765F-4B18-84E9-5066BA90A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E5580-F85E-4482-AA37-DCAFA529E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E134E-60DA-4AE5-AFC0-0DE0A1B74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2B044-5CEB-4883-B677-803A8A772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C97FA-1A84-4CFB-A462-82D17EC75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EFB02-7ADF-4FEE-8305-E04EE097A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FC6CB-AFD0-4AEF-B9DE-A339E6361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8E267-4FEE-4089-848E-1D149D543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B6B7D-EE4E-49F1-BDD8-8B694ADD1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50332-4128-4329-BF46-9C24CD54E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C956D-9C0A-453D-A68A-703D45257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8CE3D-D721-4C2F-BC72-545FD4BC6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F986B-E738-4449-A9DA-642661A38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BF0CD-B000-4BCC-8F13-B912AA356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12616-5953-4D26-A184-B3FEA2BC0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ABCD1-4CBC-4E50-B981-466CCC30B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DBE71-CF61-4F21-9874-CBE23B207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C79BA-151E-4A0D-9059-B6788EB96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74D3B-BDCC-4417-A79F-0EE8177BE0A2}" type="datetime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26-07-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E59BB-933E-4F00-86BD-F8319ADF5228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ormatShape" hidden="1"/>
          <p:cNvSpPr/>
          <p:nvPr/>
        </p:nvSpPr>
        <p:spPr>
          <a:xfrm>
            <a:off x="-1333440" y="1701720"/>
            <a:ext cx="1181160" cy="825480"/>
          </a:xfrm>
          <a:prstGeom prst="rect">
            <a:avLst/>
          </a:prstGeom>
          <a:noFill/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4" descr="leaf_title"/>
          <p:cNvPicPr/>
          <p:nvPr/>
        </p:nvPicPr>
        <p:blipFill>
          <a:blip r:embed="rId3"/>
          <a:stretch/>
        </p:blipFill>
        <p:spPr>
          <a:xfrm>
            <a:off x="0" y="-6480"/>
            <a:ext cx="9144000" cy="686916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E8A5E-CF1E-41E1-A727-2B669E998A9A}" type="datetime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26-07-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03794-0250-47F1-89EB-B59394004EDD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99840" y="152352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Photosynthesi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682280" y="4076280"/>
            <a:ext cx="5861160" cy="12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BI 3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22096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4" descr="light-indy-dep-all"/>
          <p:cNvPicPr/>
          <p:nvPr/>
        </p:nvPicPr>
        <p:blipFill>
          <a:blip r:embed="rId1"/>
          <a:stretch/>
        </p:blipFill>
        <p:spPr>
          <a:xfrm>
            <a:off x="2133720" y="0"/>
            <a:ext cx="549108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5"/>
          <p:cNvSpPr/>
          <p:nvPr/>
        </p:nvSpPr>
        <p:spPr>
          <a:xfrm>
            <a:off x="0" y="6613560"/>
            <a:ext cx="495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from: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Biology 11:  College Preparation.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Pg 74. Nelson, Toronto.  2003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do leaves turn brown in the fal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’s all about pigment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’s go outside and collect some leave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be continued…  =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energy on earth comes from the su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depend 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gae (underwater plant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yanobacteria (photosynthetic bacteri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provide this energy to u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1027" descr="photo-overview"/>
          <p:cNvPicPr/>
          <p:nvPr/>
        </p:nvPicPr>
        <p:blipFill>
          <a:blip r:embed="rId1"/>
          <a:stretch/>
        </p:blipFill>
        <p:spPr>
          <a:xfrm>
            <a:off x="838080" y="1143000"/>
            <a:ext cx="7162920" cy="5614920"/>
          </a:xfrm>
          <a:prstGeom prst="rect">
            <a:avLst/>
          </a:prstGeom>
          <a:ln w="0">
            <a:noFill/>
          </a:ln>
        </p:spPr>
      </p:pic>
      <p:sp>
        <p:nvSpPr>
          <p:cNvPr id="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bon dioxide and water are taken in by pl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ts absorb light energy and convert it to a usable for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ergy is used to “fix” carbon dioxide into sugar molecu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mical ener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gar is converted to starch and stored for use by the plant, and by animals when they eat pla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loroplas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2133720"/>
            <a:ext cx="380988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ve TWO membra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“bi-bilayer!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nner membrane is called th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ylako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hylakoid is folded and looks like stacks of coins calle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granum (gran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gular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rom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pace surrounding the gran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5" descr="chloroplast 2"/>
          <p:cNvPicPr/>
          <p:nvPr/>
        </p:nvPicPr>
        <p:blipFill>
          <a:blip r:embed="rId1"/>
          <a:stretch/>
        </p:blipFill>
        <p:spPr>
          <a:xfrm>
            <a:off x="4648320" y="1752480"/>
            <a:ext cx="4051080" cy="464832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6"/>
          <p:cNvSpPr/>
          <p:nvPr/>
        </p:nvSpPr>
        <p:spPr>
          <a:xfrm>
            <a:off x="762120" y="6324480"/>
            <a:ext cx="83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source:  </a:t>
            </a: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http://www.daviddarling.info/encyclopedia/C/chloroplasts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loroplas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440" y="2514600"/>
            <a:ext cx="380988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lorophyll molecules are embedded in the thylakoid membr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 like a light “antenna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se molecules can absorb sunlight energ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5" descr="thylakoid"/>
          <p:cNvPicPr/>
          <p:nvPr/>
        </p:nvPicPr>
        <p:blipFill>
          <a:blip r:embed="rId1"/>
          <a:stretch/>
        </p:blipFill>
        <p:spPr>
          <a:xfrm>
            <a:off x="4495680" y="2209680"/>
            <a:ext cx="4267440" cy="320040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6"/>
          <p:cNvSpPr/>
          <p:nvPr/>
        </p:nvSpPr>
        <p:spPr>
          <a:xfrm>
            <a:off x="4648320" y="5715000"/>
            <a:ext cx="3962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from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Biology 11:  College Preparation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  Pg 73.  Nelson, Toronto.  2003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ght (dependent)Re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3760" y="17524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ppen ONLY in sunl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nce they depend on ligh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ght is absorbed by chlorophyll molecu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nergy generates molecules of AT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5" descr="light rxn"/>
          <p:cNvPicPr/>
          <p:nvPr/>
        </p:nvPicPr>
        <p:blipFill>
          <a:blip r:embed="rId1"/>
          <a:stretch/>
        </p:blipFill>
        <p:spPr>
          <a:xfrm>
            <a:off x="152280" y="1828800"/>
            <a:ext cx="5181840" cy="420516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6"/>
          <p:cNvSpPr/>
          <p:nvPr/>
        </p:nvSpPr>
        <p:spPr>
          <a:xfrm>
            <a:off x="304920" y="6172200"/>
            <a:ext cx="495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from: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Biology 11:  College Preparation.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Pg 74. Nelson, Toronto.  2003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ght Independent Reaction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formerly the “dark reactions”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48604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479880" indent="-479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ppen in sunlight, and in the dar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2960" indent="-411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nce “independent of light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79880" indent="-479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P generated by sunlight drives th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vin Cyc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9880" indent="-479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osaccarides (eg. glucose) are manufactured in the cyc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9880" indent="-479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osaccarides are used to “build” polysaccharides (eg. Starc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5" descr="calvin"/>
          <p:cNvPicPr/>
          <p:nvPr/>
        </p:nvPicPr>
        <p:blipFill>
          <a:blip r:embed="rId1"/>
          <a:stretch/>
        </p:blipFill>
        <p:spPr>
          <a:xfrm>
            <a:off x="-457200" y="1981080"/>
            <a:ext cx="5943600" cy="411192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6"/>
          <p:cNvSpPr/>
          <p:nvPr/>
        </p:nvSpPr>
        <p:spPr>
          <a:xfrm>
            <a:off x="304920" y="6172200"/>
            <a:ext cx="495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from: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Biology 11:  College Preparation.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Pg 74. Nelson, Toronto.  2003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verall Re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6"/>
          <p:cNvSpPr/>
          <p:nvPr/>
        </p:nvSpPr>
        <p:spPr>
          <a:xfrm>
            <a:off x="1523880" y="220968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equation for photosynthesi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7"/>
          <p:cNvSpPr/>
          <p:nvPr/>
        </p:nvSpPr>
        <p:spPr>
          <a:xfrm>
            <a:off x="4419720" y="27432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9"/>
          <p:cNvSpPr/>
          <p:nvPr/>
        </p:nvSpPr>
        <p:spPr>
          <a:xfrm>
            <a:off x="762120" y="365760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bon dioxide + water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glucose + oxygen + ener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10"/>
          <p:cNvSpPr/>
          <p:nvPr/>
        </p:nvSpPr>
        <p:spPr>
          <a:xfrm>
            <a:off x="4419720" y="4191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1"/>
          <p:cNvSpPr/>
          <p:nvPr/>
        </p:nvSpPr>
        <p:spPr>
          <a:xfrm>
            <a:off x="1371600" y="502920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2"/>
          <p:cNvSpPr/>
          <p:nvPr/>
        </p:nvSpPr>
        <p:spPr>
          <a:xfrm>
            <a:off x="1447920" y="5105520"/>
            <a:ext cx="7162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+  6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+  6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+  ener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11T17:25:57Z</dcterms:created>
  <dc:creator>Sonia Coleman</dc:creator>
  <dc:description/>
  <cp:keywords>photosynthesis</cp:keywords>
  <dc:language>en-US</dc:language>
  <cp:lastModifiedBy>LEGION2</cp:lastModifiedBy>
  <dcterms:modified xsi:type="dcterms:W3CDTF">2016-01-13T09:25:25Z</dcterms:modified>
  <cp:revision>10</cp:revision>
  <dc:subject/>
  <dc:title>Photosynthesis</dc:title>
</cp:coreProperties>
</file>